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A24-78B8-4A72-957C-71CDB56B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EC0-51C8-46B7-8C05-7C8CC534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994-8571-46A6-A60C-FF5CB2DC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882-6EB9-4535-BA66-891CD7A4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E9E-80B9-4ACE-B490-39457D56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070-517F-4FE9-8F5A-BF2A0600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A52-CA6F-4C59-BEEE-142F31A9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017-7A8F-4A73-A3B8-4EF33648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898-40EB-457B-B619-1F7DD002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7D2-6709-49E0-8A7C-64477B1F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4BC-2220-45E7-AF3F-41358733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B1B-0E13-4364-AF91-58212957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486C-457C-4DA5-80AB-6A232D8FB5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3800" y="616500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歌曲《绿叶对根的情意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89600" y="0"/>
            <a:ext cx="2374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学   会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感    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11680" y="907920"/>
            <a:ext cx="12164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感 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主  题  班  会  设  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6920" y="62064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都某大学近期开展了一项特殊的活动：让学生们算笔账，算出大学四年需要花费多少钱？每个小时每一分钟需要花费多少钱？同时鼓励学生将自己的心得以书信的方式和家长交流，许多学生由此看到了父母身上承载着的艰辛和重负，体会到父母心灵深处对自己的期望。这些处处体现出融洽的亲情、理解和感激的传统家书感动了学校、感动了老师，他们将这些信编成了一本《当代大学生品德行为》的书，作为校外辅助教材。 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4941720"/>
            <a:ext cx="76197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9280" y="765000"/>
            <a:ext cx="79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岛开发区四中每天都给学生布置感恩作业：“今天有没有给别人添麻烦？今天是否有进步表现？今天你最感激谁？”老师用激励性的语言给予学生关爱和理解的批阅，并评出四个等级，将成绩记入学生的德育档案。学校这样做的目的，就是让学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反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善于发现别人的优点，加强自律，学会对帮助过自己的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心存感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塑造学生的健全人格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4365720"/>
            <a:ext cx="7619760" cy="2158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27640" y="3357720"/>
            <a:ext cx="374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3789360"/>
            <a:ext cx="7490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221000"/>
            <a:ext cx="280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6920" y="170028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有太多值得感恩的事情和理由。感谢我们的父母，由于你们的言传身教，于是，我们懂得了什么是黑，什么是白，懂得了分辨是非曲直。感谢我们的老师，因为你们的指导和教育，于是，我们懂得了用知识来武装自己。感谢我们的朋友和同学，是你们的友情和包容，让我们有了自己独立的性格表现，于是，我们也学会了包容别人……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01800" cy="180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42200" y="5056200"/>
            <a:ext cx="1801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要再认为所有的事情都是理所当然的，其实所有的一切都来之不易的。我们要感谢为我们服务的人，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例，如果没有老师、图书馆员、印刷工、花工、水电工、校医、门卫、炊事员等等的工作保障，我们的校园生活和学习就难以维持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会承担自己在学校和家庭的责任和义务；学会感受为他人服务的快乐；学会把“行”、“谢谢”和“对不起”时时挂在嘴边；学会 “在乎”每一个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尊重他人的权益；体现在生活的每一个细节之中就是不随地乱抛纸屑果皮，因为整洁的环境属于大家；课间与午休时不要大声喧哗，因为安静属于大家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此的学会、学会，能使我们懂得更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爱的更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得到的更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020000" y="5589720"/>
            <a:ext cx="1873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要再认为父母是理所当然帮我们做任何事情，他们把我们带到这美丽的世界，已经是足够的伟大，而且将我们养育成人，不求回报，默默的为我们付出，我们就别再贪得无厌的索求他们的付出，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3789360"/>
            <a:ext cx="76197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9640" y="765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要再认为你所拥有的一切是理所当然的，尽管他们的得来，也包含着你的心血，你的努力，但也不都是你一个人的，因为没有他人的心血和努力，世界就无法像现在这般绚丽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感谢老师给予我及时的指导与教育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00720" y="3573360"/>
            <a:ext cx="3377880" cy="253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3782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16000" y="1052640"/>
            <a:ext cx="61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感谢大自然赐予我们澄澈的蓝天、明媚的阳光和新鲜的空气；学会善待世间万物的生命，爱护一草一木，爱大自然、爱地球母亲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6985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76500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一个人的基本素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个缺乏爱心，不懂得感恩惜福的人，长大后不可能懂得体谅、关心他人，不懂得孝敬父母，尊敬师长，也难以与人交往、融入社会，更谈不上爱同学、爱母校、爱国家、爱民族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7559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00000" y="549360"/>
            <a:ext cx="75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一种礼仪，是一种健康的心态，是一种做人的境界，也是一种社会进步、现代文明的体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让这个世界一天一天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让人与人之间一天一天更加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温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1916280"/>
            <a:ext cx="36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227664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2781360"/>
            <a:ext cx="2233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7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620640"/>
            <a:ext cx="7775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愿所有的郁中人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知道感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愿所有的郁中人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76197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549360"/>
            <a:ext cx="633564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设计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的学生，就其心灵的一翼——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来看，普遍患有“情感冷漠症”。对父母之恩，熟视无睹者有之，麻木不仁者有之，贪得无厌者有之，以怨报德者亦有之，唯独知恩图报者鲜有之。那么对父母无情无义之人，对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师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集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更不会有情有义了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过本次班会，努力唤回学生回报爱心的良知，并引导学生通过抒发真情实感的习作来重新构筑健全的人格，懂得爱的无私、伟大、纯洁，激发学生爱的情感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2205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27664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2708280"/>
            <a:ext cx="136836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2708280"/>
            <a:ext cx="136872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3141720"/>
            <a:ext cx="1440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141720"/>
            <a:ext cx="12970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20000" y="165240"/>
            <a:ext cx="18511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33360"/>
            <a:ext cx="561672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生育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使你体验生命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抚养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使你不断成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帮助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使你度过难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关怀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给你温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鼓励你的人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给你力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教育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开化你的蒙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钟爱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们让你体会爱情的宝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伤害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磨炼了你的心志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绊倒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强化了你的双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欺骗你的人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增进了你的智慧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藐视你的人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觉醒了你的自尊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激遗弃你的人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因为他教会了你该独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凡事感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学会感激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977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9280" y="1052640"/>
            <a:ext cx="51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愿大家行动起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----------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学会感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981000"/>
            <a:ext cx="5616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懂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报是我们社会的一种道德规范，并在以后的学习、工作、生活中身体力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80000" y="4387680"/>
            <a:ext cx="3095640" cy="206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84360" y="335772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1844640"/>
            <a:ext cx="66978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国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罗斯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统就常怀感恩之心。据说有一次家里失盗，被偷去了许多东西，一位朋友闻讯后，忙写信安慰他。罗斯福在回信中写道：“亲爱的朋友，谢谢你来信安慰我，我现在很好，感谢上帝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因为第一，贼偷去的是我的东西，而没有伤害我的生命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，贼只偷去我部分东西，而不是全部；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第三，最值得庆幸的是，做贼的是他，而不是我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对任何一个人来说，失盗绝对是不幸的事，而罗斯福却找出了感恩的三条理由。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是一种怎样的气度和智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620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历史上有很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名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怀有一颗真诚的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88000" y="5373720"/>
            <a:ext cx="2556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76500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美国，感恩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Thanksgiving Day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个不折不扣的最地道的国定假日。在这一天，具有各种信仰和各种背景的美国人，共同为他们一年来所受到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恩典表示感谢，虔诚地祈求上帝继续赐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7475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765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实值得感恩的不仅仅是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上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们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父母、师长、亲朋、同学、社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等都应始终抱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心。我们的生命、健康、财富以及我们每天享受着的空气阳光水源，莫不应在我们的感恩之列。一位盲人曾经请人在自己的乞讨用的牌子上这样写道：“春天来了，而我却看不到她。”我们与这位盲人相比，进一步说与那些失去生命和自由的人相比，目前能这样快快乐乐地活在世界上，谁说不是一种命运的恩赐，我们还会时常愤怒得发抖而总去抱怨命运给自己的不幸和不平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92720" y="4967280"/>
            <a:ext cx="28368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83664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方国家有“感恩节”，中国自古以来就倡导“滴水之恩，当涌泉相报”，时至社会高速发展的今天，一些人却不懂得感恩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619760" cy="285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7640" y="1844640"/>
            <a:ext cx="30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2349360"/>
            <a:ext cx="11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47628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些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自我为中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学生，在家里，吃饭时最好的菜他一人独享；电视遥控器他一人主宰；同学聚会，要设法把父母打发出去，或时不时给父母脸色等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父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学校，坐在宽敞明亮的教室，使用优良的教学设备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社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课堂上，教师上课他打瞌睡，上语文课他看外语，教师苦口婆心的规劝他视为耳边风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教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享用着大自然赐给我们的一切，不知感激和保护它，反而随意破坏它……这些人常常是“要求”多于“感恩”，只顾自己的利益，将父母、亲人、师长、朋友、同学的帮助视为理所当然、天经地义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5229360"/>
            <a:ext cx="7993080" cy="136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684360" y="3933360"/>
            <a:ext cx="7559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436572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62064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这样一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母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女儿每年生日时，妈妈总是带她到医院去看望当年的产科医生，感谢他将孩子带领到这个世界上。女儿在各种比赛中获奖时，父母不是先夸奖她，而是提醒女儿：无论取得什么样的荣誉，都离不开你身边的同学、老师。女儿从母亲手中接过新文具、新衣服、好吃的食品时，她都会懂事的以微笑和“谢谢”来感谢父母对她的关爱。长此以往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她学会了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会了让周围的人都来分享自己的快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4724280"/>
            <a:ext cx="76201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3:12:43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6:56:17Z</dcterms:modified>
  <cp:revision>3</cp:revision>
  <dc:subject>主题班会课件(分28大类): http://shop62905894.taobao.com</dc:subject>
  <dc:title>主题班会课件(分28大类): http://shop62905894.taobao.com</dc:title>
</cp:coreProperties>
</file>